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CDA8-6764-49CA-A5B8-BD770A88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6337-DFA6-422E-BF32-7596CF0E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A82-60EA-4252-86C2-B9B84ECA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C7C-D264-4AB7-BB25-05F19B29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17C4-A476-4FC0-BFA5-122D8F7EF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6DE5-9340-4137-950E-83A89D1B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33C-5D8E-4974-BFE6-ABBDFB00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E4D7-5F33-4CFE-B9AC-F63F1D269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B882-FD9F-4C1F-A67D-1C57DC63A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291C-A133-4E21-9610-5190E287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BFC4-470E-4D39-AE3C-318AEBC77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932F-C863-4F22-818C-3C93E57C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BE6-4136-4EC9-8920-265ADA1A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7FC6-5E3D-4326-9C8B-1FB7F0BA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7B0-4C90-4495-A4BA-D4CC1736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59D7-6091-409A-98AC-A71CBFCA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4AD-0099-4A9D-A682-3CF9CE1E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818F-269D-4182-9AA4-C92B4650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5E32-0ABB-40FF-A549-202BCAAE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17A4-FDC3-4FF7-AE43-C8F37BF9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406-9E86-4B25-B177-9BF647BCF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225D-1CC6-4731-896C-371E5958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D437-F8BF-45EB-B29D-11C2E17C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9CB-1B2C-4372-BC83-EEEDFD0BE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D1C-F22F-4C09-B0A7-35E50F5B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EFD-6946-455D-A41B-2AD7B55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CE8-E654-48B2-B14A-BACE73E9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938-C975-41F2-8A21-7C23D6FD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72CA-AC21-4710-AA27-C1AB4614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D097-2457-46B9-97D6-F94AF6CE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FA8D-E9C8-4BD4-8275-DF2A089D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8A35-8A73-467A-A545-E9208B5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D9DD-594A-4C6A-9021-EAEB5714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72B0-ED99-47B2-BF8B-DF4F272A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49FD-954A-49BE-B1BB-A78D140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63B-BB93-42E0-B54B-7978ECEF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2F78-024E-437D-91F0-9815917C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F5C9-45E8-49AA-95AC-5A1D5E2B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F350-156B-481A-B506-4F59E1C7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670-7C70-4EF5-999F-590AD84F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84F3-8DF1-4BC0-ABDA-30A7B79A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4EEF-A6FA-4BAD-A338-4E9A07A1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5DA5-2CF5-419E-A18B-D9E4D85E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9671-DD2F-4FC4-9BF8-30A152C6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6E92-A592-4393-9123-1C536742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6386-E625-4D08-AC96-3075E383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07E-1D89-4283-BB2A-3D0A4BCB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406D-D956-42E2-A5D0-FE964E14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A39A-1A43-40EF-B379-8135003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F36E-1890-40C2-9D44-C7F4F06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5B7C-CD8D-40BF-A687-EF27E178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E199-2093-424D-B38B-C19A8F7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C58E-1665-4AE1-9606-AA012270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A79F-B3F6-4042-A18C-5F7442E7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D10-0F60-4081-B3F0-F54ABE4D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884-F75F-408B-BD1D-C8895EF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D11-4B4B-4242-9BB1-6ED90E82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9B6-2D8E-4717-A00E-F8DF1A2A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29F-C3F2-4F53-AA55-493B8AD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600-339E-4000-9209-5A0E262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9086-6EC3-434B-AEB6-C7422166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E499-46A5-4D75-AB61-D965893B63E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D7F3-0CF6-4785-A100-48060D51B5A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69040" y="31104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Gw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6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838080" y="22089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2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3"/>
          <p:cNvSpPr/>
          <p:nvPr/>
        </p:nvSpPr>
        <p:spPr>
          <a:xfrm>
            <a:off x="53352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8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0">
            <a:hlinkClick r:id="rId26" action="ppaction://hlinksldjump"/>
          </p:cNvPr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3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295280" y="205740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4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imi pacheco</cp:lastModifiedBy>
  <dcterms:modified xsi:type="dcterms:W3CDTF">2009-01-17T17:53:07Z</dcterms:modified>
  <cp:revision>20</cp:revision>
  <dc:subject/>
  <dc:title>Slide 1</dc:title>
</cp:coreProperties>
</file>